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6F21-A21D-4ADA-BC31-180532E0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30DF-9F31-403F-84F9-F4917A88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774-5531-4D10-9C7E-BD4BF04D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D0BA-6E92-4A52-B3B3-E438F456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3E9B-6AB8-483D-8F56-2C8AB943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5DE4-8042-4F4B-96F7-5A2E355D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973-3FB3-4796-A77C-1AB659E9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A8A6-A25A-4EE5-B4F7-2D1E108A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81D-6911-4A33-95C8-99D57D22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3E3-3F04-4343-BD3A-624A7FA0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393-B9AB-4677-B799-8AC2426E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E6A0-B5BF-4C26-A8BC-D5D0A5ED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9CB2-2273-4D1C-8694-D97EDF7DF61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8:08:50Z</dcterms:created>
  <dc:creator>Grupo Editorial</dc:creator>
  <dc:description/>
  <dc:language>en-US</dc:language>
  <cp:lastModifiedBy>TORRES</cp:lastModifiedBy>
  <dcterms:modified xsi:type="dcterms:W3CDTF">2010-12-19T21:45:58Z</dcterms:modified>
  <cp:revision>2</cp:revision>
  <dc:subject/>
  <dc:title>Sin título de diapositiva</dc:title>
</cp:coreProperties>
</file>